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19983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B40-1058-44B1-BBC4-7C50ECC8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4BC-24E0-4604-AF90-CE2CD89A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EC3-F6B8-4DA6-A8A4-7344FA71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9BC-C944-48E4-BC6A-84555C5A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D19-AC70-4C30-82DC-1CB3AD73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5484-2E1A-4EA8-ACE4-A5E5F67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F9D5-DFEC-46EC-9CA3-B8E2AF4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B429-9438-45A0-8479-3BEFB39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8233-E759-49F9-904F-B366900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3585-1258-4F96-96A1-12166E2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35F3-56A4-49F5-95FE-B600DB8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112-4EA6-4B68-85D1-151797EA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ED3-B464-4D22-975A-E91EAD2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3EEC-7CAF-4FBA-A9C6-10F4782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CF35-4058-4950-ACF8-002D0722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8FA5-BEA6-454D-8549-0697B29A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4C5-B423-4CEA-9D50-BB7C3B54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EB5C-B0D2-409F-B920-C9F5EF4F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DFA3-23CA-4904-ACFF-219E1B1B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C2CC-0627-42EE-9392-579DF06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63AB-2855-4B9D-AF31-C006AF40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2B75-708D-4B9D-80DC-85AB1916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9B4-8A8D-45E0-B6BE-9FF81E0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30BE-BF6D-4ADE-8C46-F5EF41AB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3FCB-6479-4AE9-B646-3F2BAB08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2A00-48F9-40BC-92FE-354D9E6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955C-234B-4E20-99B9-96ECD3C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92D8-B13A-4839-BB5A-295B4BB0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E602-1E58-4F33-81FA-A77DDD0D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784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857720" y="192060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796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784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857720" y="4355280"/>
            <a:ext cx="345672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7015-3D4B-4058-B8B8-BB1FD0D3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06E-4863-4925-85C7-56075D2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5D2-FB1E-4E54-B853-EF3CDD0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7960" y="120240"/>
            <a:ext cx="1079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4617b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79A-46D2-4255-A3CE-3AEB2BB0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9DC-7CB9-4742-95E8-7933D1AE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9480" y="435528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A38-D1F0-4DCA-AB75-579CD67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796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9480" y="1920600"/>
            <a:ext cx="52390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7960" y="4355280"/>
            <a:ext cx="10736280" cy="22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235-5675-407B-B34D-22250541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63040" y="6886440"/>
            <a:ext cx="2792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66920" y="6886440"/>
            <a:ext cx="3800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565840" y="6886440"/>
            <a:ext cx="2792520" cy="5191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1421-C6F3-4A69-9A28-C8FE761E0C4C}" type="slidenum">
              <a:rPr b="0" lang="pl-PL" sz="2400" spc="-1" strike="noStrike">
                <a:solidFill>
                  <a:srgbClr val="dbf5f9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49360" y="301680"/>
            <a:ext cx="107949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8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52600" y="5216040"/>
            <a:ext cx="1078704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123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123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8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7960" y="12024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7960" y="1920600"/>
            <a:ext cx="1073628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960" y="688644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01840" y="6886440"/>
            <a:ext cx="380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02200" y="688644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114BC-8CBE-4DE7-B4AF-A975CF646D1E}" type="slidenum"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7960" y="301320"/>
            <a:ext cx="107953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7960" y="1828440"/>
            <a:ext cx="1082844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960" y="6827760"/>
            <a:ext cx="279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01840" y="6827760"/>
            <a:ext cx="380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187920" y="6827760"/>
            <a:ext cx="2251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C5FFF-0C52-4888-9C8B-4389B69F00BB}" type="slidenum">
              <a:rPr b="0" lang="pl-PL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52600" y="5216400"/>
            <a:ext cx="107899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dbf5f9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2039760" y="1889280"/>
            <a:ext cx="5880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8000" spc="-1" strike="noStrike">
                <a:solidFill>
                  <a:srgbClr val="729fcf"/>
                </a:solidFill>
                <a:latin typeface="Segoe Script"/>
              </a:rPr>
              <a:t>Uff, les verbes !</a:t>
            </a:r>
            <a:endParaRPr b="0" lang="en-US" sz="8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9215280" y="6191280"/>
            <a:ext cx="1703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Wydawnictwo Draco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14680" y="1882800"/>
            <a:ext cx="5195880" cy="49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0" y="1816200"/>
            <a:ext cx="536904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73440" y="1749600"/>
            <a:ext cx="4969080" cy="49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"/>
          <p:cNvSpPr/>
          <p:nvPr/>
        </p:nvSpPr>
        <p:spPr>
          <a:xfrm>
            <a:off x="3701880" y="3456000"/>
            <a:ext cx="44341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8000" spc="-1" strike="noStrike">
                <a:solidFill>
                  <a:srgbClr val="3465a4"/>
                </a:solidFill>
                <a:latin typeface="Source Sans Pro"/>
              </a:rPr>
              <a:t>EXERCICE</a:t>
            </a:r>
            <a:endParaRPr b="0" lang="en-US" sz="8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79800" y="1871640"/>
            <a:ext cx="451476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87640" y="2376360"/>
            <a:ext cx="40100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32280" y="1800360"/>
            <a:ext cx="506736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032360" y="1876320"/>
            <a:ext cx="4924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43280" y="1879560"/>
            <a:ext cx="54007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43280" y="1871640"/>
            <a:ext cx="56628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75200" y="2432160"/>
            <a:ext cx="38448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9200" y="187164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16360" y="1920960"/>
            <a:ext cx="524988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73360" y="1920960"/>
            <a:ext cx="538164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24360" y="1914480"/>
            <a:ext cx="573372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56000" y="1871640"/>
            <a:ext cx="65451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16360" y="1920960"/>
            <a:ext cx="521028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92720" y="2016000"/>
            <a:ext cx="380340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2087640"/>
            <a:ext cx="404640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62360" y="2232000"/>
            <a:ext cx="487836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9280" y="1943280"/>
            <a:ext cx="4640040" cy="46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727440" y="1920960"/>
            <a:ext cx="469584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56000" y="1800360"/>
            <a:ext cx="54720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7960" y="120600"/>
            <a:ext cx="107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8320" y="1920960"/>
            <a:ext cx="1073952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43280" y="1920960"/>
            <a:ext cx="5040360" cy="473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5T16:59:02Z</dcterms:created>
  <dc:creator/>
  <dc:description/>
  <dc:language>en-US</dc:language>
  <cp:lastModifiedBy/>
  <dcterms:modified xsi:type="dcterms:W3CDTF">2020-12-02T20:17:45Z</dcterms:modified>
  <cp:revision>3</cp:revision>
  <dc:subject/>
  <dc:title>Vivid</dc:title>
</cp:coreProperties>
</file>